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AEB-9B5A-4348-8EF8-D3ACC32F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212-DD29-45BF-9D2C-7B1F0B03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EF9-7C7A-4051-BEA7-57E8F5C9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88D-7453-470B-AC00-77E14ABA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C68-E9FE-46AA-ACB8-C71908B2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C8F-85E3-4CEC-B81D-A2D362B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DE6-B068-4FCF-A2DF-3779363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EE0-3703-474C-9D9D-A22F34B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CA4-356B-40C5-8D12-13CB488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20F-1170-47A4-871D-BAA89B8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C27-E324-4439-B564-3DAB3564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BF2-A1F1-4038-9EE1-46868985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442-6179-485C-83D1-2EF2A80CE77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156-23C6-4AEA-836F-68248BE87D0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2305080" y="2362320"/>
            <a:ext cx="75819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731880" y="1628640"/>
            <a:ext cx="10728360" cy="3170520"/>
          </a:xfrm>
          <a:prstGeom prst="rect">
            <a:avLst/>
          </a:prstGeom>
          <a:ln w="0">
            <a:noFill/>
          </a:ln>
        </p:spPr>
      </p:pic>
      <p:sp>
        <p:nvSpPr>
          <p:cNvPr id="110" name="矩形 5"/>
          <p:cNvSpPr/>
          <p:nvPr/>
        </p:nvSpPr>
        <p:spPr>
          <a:xfrm>
            <a:off x="7034040" y="1555920"/>
            <a:ext cx="15004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6962760" y="3789360"/>
            <a:ext cx="2102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743040" y="592200"/>
            <a:ext cx="10706040" cy="5243400"/>
          </a:xfrm>
          <a:prstGeom prst="rect">
            <a:avLst/>
          </a:prstGeom>
          <a:ln w="0">
            <a:noFill/>
          </a:ln>
        </p:spPr>
      </p:pic>
      <p:sp>
        <p:nvSpPr>
          <p:cNvPr id="113" name="矩形 5"/>
          <p:cNvSpPr/>
          <p:nvPr/>
        </p:nvSpPr>
        <p:spPr>
          <a:xfrm>
            <a:off x="6889680" y="1700280"/>
            <a:ext cx="42577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6889680" y="2781360"/>
            <a:ext cx="12542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7032600" y="3932280"/>
            <a:ext cx="11048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6959520" y="5013360"/>
            <a:ext cx="11779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784080" y="1193760"/>
            <a:ext cx="10623600" cy="4183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6961320" y="1195560"/>
            <a:ext cx="11286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7391520" y="2276640"/>
            <a:ext cx="21034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6959520" y="3429000"/>
            <a:ext cx="10796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889680" y="4508640"/>
            <a:ext cx="7462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663480" y="1628640"/>
            <a:ext cx="10864800" cy="3170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5"/>
          <p:cNvSpPr/>
          <p:nvPr/>
        </p:nvSpPr>
        <p:spPr>
          <a:xfrm>
            <a:off x="6959520" y="1628640"/>
            <a:ext cx="5209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7394400" y="2781360"/>
            <a:ext cx="2102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6816600" y="3860640"/>
            <a:ext cx="12765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727200" y="1171440"/>
            <a:ext cx="10737720" cy="4229280"/>
          </a:xfrm>
          <a:prstGeom prst="rect">
            <a:avLst/>
          </a:prstGeom>
          <a:ln w="0">
            <a:noFill/>
          </a:ln>
        </p:spPr>
      </p:pic>
      <p:sp>
        <p:nvSpPr>
          <p:cNvPr id="127" name="矩形 5"/>
          <p:cNvSpPr/>
          <p:nvPr/>
        </p:nvSpPr>
        <p:spPr>
          <a:xfrm>
            <a:off x="6889680" y="1197000"/>
            <a:ext cx="13305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6889680" y="2273400"/>
            <a:ext cx="13305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6889680" y="3421080"/>
            <a:ext cx="17845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889680" y="4497480"/>
            <a:ext cx="13305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636480" y="795240"/>
            <a:ext cx="10918800" cy="29718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"/>
          <p:cNvPicPr/>
          <p:nvPr/>
        </p:nvPicPr>
        <p:blipFill>
          <a:blip r:embed="rId2"/>
          <a:stretch/>
        </p:blipFill>
        <p:spPr>
          <a:xfrm>
            <a:off x="1200240" y="4221000"/>
            <a:ext cx="275724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1057320" y="3168720"/>
            <a:ext cx="10574280" cy="17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465120" y="1378080"/>
            <a:ext cx="11261880" cy="1806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"/>
          <p:cNvPicPr/>
          <p:nvPr/>
        </p:nvPicPr>
        <p:blipFill>
          <a:blip r:embed="rId2"/>
          <a:stretch/>
        </p:blipFill>
        <p:spPr>
          <a:xfrm>
            <a:off x="1139760" y="3645000"/>
            <a:ext cx="2262240" cy="69192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1057320" y="2451240"/>
            <a:ext cx="10574280" cy="18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727200" y="1378080"/>
            <a:ext cx="10737720" cy="18064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1343160" y="3571920"/>
            <a:ext cx="4457520" cy="701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1057320" y="2378160"/>
            <a:ext cx="10574280" cy="18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" descr=""/>
          <p:cNvPicPr/>
          <p:nvPr/>
        </p:nvPicPr>
        <p:blipFill>
          <a:blip r:embed="rId1"/>
          <a:stretch/>
        </p:blipFill>
        <p:spPr>
          <a:xfrm>
            <a:off x="625320" y="1254240"/>
            <a:ext cx="10941120" cy="1766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" descr=""/>
          <p:cNvPicPr/>
          <p:nvPr/>
        </p:nvPicPr>
        <p:blipFill>
          <a:blip r:embed="rId2"/>
          <a:stretch/>
        </p:blipFill>
        <p:spPr>
          <a:xfrm>
            <a:off x="1200240" y="3573360"/>
            <a:ext cx="3976560" cy="723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1057320" y="2378160"/>
            <a:ext cx="10574280" cy="19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762120" y="1380960"/>
            <a:ext cx="10667880" cy="17989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" descr=""/>
          <p:cNvPicPr/>
          <p:nvPr/>
        </p:nvPicPr>
        <p:blipFill>
          <a:blip r:embed="rId2"/>
          <a:stretch/>
        </p:blipFill>
        <p:spPr>
          <a:xfrm>
            <a:off x="1343160" y="3641760"/>
            <a:ext cx="7170480" cy="72396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1057320" y="2451240"/>
            <a:ext cx="10574280" cy="21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>
            <a:off x="647640" y="1511280"/>
            <a:ext cx="10896840" cy="326088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6372360" y="3813120"/>
            <a:ext cx="4103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696960" y="692280"/>
            <a:ext cx="9151920" cy="1904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2"/>
          <a:stretch/>
        </p:blipFill>
        <p:spPr>
          <a:xfrm>
            <a:off x="695160" y="2924280"/>
            <a:ext cx="10814040" cy="17985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"/>
          <p:cNvPicPr/>
          <p:nvPr/>
        </p:nvPicPr>
        <p:blipFill>
          <a:blip r:embed="rId3"/>
          <a:stretch/>
        </p:blipFill>
        <p:spPr>
          <a:xfrm>
            <a:off x="1343160" y="5156280"/>
            <a:ext cx="6172200" cy="731880"/>
          </a:xfrm>
          <a:prstGeom prst="rect">
            <a:avLst/>
          </a:prstGeom>
          <a:ln w="0">
            <a:noFill/>
          </a:ln>
        </p:spPr>
      </p:pic>
      <p:sp>
        <p:nvSpPr>
          <p:cNvPr id="149" name="矩形 5"/>
          <p:cNvSpPr/>
          <p:nvPr/>
        </p:nvSpPr>
        <p:spPr>
          <a:xfrm>
            <a:off x="1057320" y="1876320"/>
            <a:ext cx="90694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1057320" y="4029120"/>
            <a:ext cx="10574280" cy="18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770040" y="826920"/>
            <a:ext cx="10652040" cy="505944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9048600" y="1844640"/>
            <a:ext cx="2102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9462960" y="2975040"/>
            <a:ext cx="1357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9391680" y="4051440"/>
            <a:ext cx="13842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104400" y="5127480"/>
            <a:ext cx="1143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762120" y="725400"/>
            <a:ext cx="10667880" cy="4977000"/>
          </a:xfrm>
          <a:prstGeom prst="rect">
            <a:avLst/>
          </a:prstGeom>
          <a:ln w="0">
            <a:noFill/>
          </a:ln>
        </p:spPr>
      </p:pic>
      <p:sp>
        <p:nvSpPr>
          <p:cNvPr id="88" name="矩形 5"/>
          <p:cNvSpPr/>
          <p:nvPr/>
        </p:nvSpPr>
        <p:spPr>
          <a:xfrm>
            <a:off x="7684920" y="1771560"/>
            <a:ext cx="1082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7537320" y="3932280"/>
            <a:ext cx="7272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784080" y="328680"/>
            <a:ext cx="10623600" cy="581976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>
            <a:off x="7610400" y="333360"/>
            <a:ext cx="11368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7537320" y="2421000"/>
            <a:ext cx="39243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5810400" y="3500280"/>
            <a:ext cx="50893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606600" y="1901880"/>
            <a:ext cx="1097892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矩形 5"/>
          <p:cNvSpPr/>
          <p:nvPr/>
        </p:nvSpPr>
        <p:spPr>
          <a:xfrm>
            <a:off x="7537320" y="2060640"/>
            <a:ext cx="1212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974880" y="1092240"/>
            <a:ext cx="10242360" cy="4098960"/>
          </a:xfrm>
          <a:prstGeom prst="rect">
            <a:avLst/>
          </a:prstGeom>
          <a:ln w="0">
            <a:noFill/>
          </a:ln>
        </p:spPr>
      </p:pic>
      <p:sp>
        <p:nvSpPr>
          <p:cNvPr id="97" name="矩形 5"/>
          <p:cNvSpPr/>
          <p:nvPr/>
        </p:nvSpPr>
        <p:spPr>
          <a:xfrm>
            <a:off x="6816600" y="2133720"/>
            <a:ext cx="12718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6816600" y="3273480"/>
            <a:ext cx="15177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889680" y="4363920"/>
            <a:ext cx="1013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984240" y="1160640"/>
            <a:ext cx="9631440" cy="4106520"/>
          </a:xfrm>
          <a:prstGeom prst="rect">
            <a:avLst/>
          </a:prstGeom>
          <a:ln w="0">
            <a:noFill/>
          </a:ln>
        </p:spPr>
      </p:pic>
      <p:sp>
        <p:nvSpPr>
          <p:cNvPr id="101" name="矩形 5"/>
          <p:cNvSpPr/>
          <p:nvPr/>
        </p:nvSpPr>
        <p:spPr>
          <a:xfrm>
            <a:off x="6889680" y="1123920"/>
            <a:ext cx="1239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6888240" y="2205000"/>
            <a:ext cx="1079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6816600" y="4437000"/>
            <a:ext cx="12319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554040" y="588960"/>
            <a:ext cx="10653840" cy="524988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6746760" y="620640"/>
            <a:ext cx="43387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6384960" y="1700280"/>
            <a:ext cx="13888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889680" y="2852640"/>
            <a:ext cx="11098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6959520" y="5084640"/>
            <a:ext cx="962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8:11:19Z</dcterms:modified>
  <cp:revision>3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