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B7F-C024-450A-B06F-0423C27A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69D-5C86-40E7-BDB5-786374A8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937-40AF-4A6F-A2B3-D25D535F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812-6F9F-4353-B0CE-7149EA98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5DC-6C11-4CCB-A43C-7AE9C3EE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119-5223-41D5-8BA0-2C9EBD5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667-3A2D-4271-8CE1-DED287B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816-6A7B-4A2C-99B7-5899A6F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3AF-04C2-4256-9F66-5701D8C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F71-A0E0-4C27-AA99-193D1CF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B42-C383-4DB6-B981-4453CCEE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369-2D4C-412C-A82A-C5A2195B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20D-1551-4233-A1E4-563F88B2E16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D762-FE6D-4955-B31F-47C773BA25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455840" y="2448000"/>
            <a:ext cx="928044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663480" y="1409760"/>
            <a:ext cx="108648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2"/>
          <a:stretch/>
        </p:blipFill>
        <p:spPr>
          <a:xfrm>
            <a:off x="1258920" y="3425760"/>
            <a:ext cx="7521480" cy="72396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1076400" y="2279520"/>
            <a:ext cx="10669680" cy="19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549360" y="1041480"/>
            <a:ext cx="11093400" cy="3483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"/>
          <p:cNvPicPr/>
          <p:nvPr/>
        </p:nvPicPr>
        <p:blipFill>
          <a:blip r:embed="rId2"/>
          <a:stretch/>
        </p:blipFill>
        <p:spPr>
          <a:xfrm>
            <a:off x="1055520" y="4940280"/>
            <a:ext cx="4275360" cy="6858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985680" y="1987560"/>
            <a:ext cx="1070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968400" y="3908520"/>
            <a:ext cx="10701360" cy="18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25320" y="412920"/>
            <a:ext cx="10798200" cy="5600520"/>
          </a:xfrm>
          <a:prstGeom prst="rect">
            <a:avLst/>
          </a:prstGeom>
          <a:ln w="0">
            <a:noFill/>
          </a:ln>
        </p:spPr>
      </p:pic>
      <p:sp>
        <p:nvSpPr>
          <p:cNvPr id="81" name="矩形 3"/>
          <p:cNvSpPr/>
          <p:nvPr/>
        </p:nvSpPr>
        <p:spPr>
          <a:xfrm>
            <a:off x="5597640" y="2279520"/>
            <a:ext cx="2811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8616960" y="4219560"/>
            <a:ext cx="1303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8688240" y="5156280"/>
            <a:ext cx="1258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679320" y="1147680"/>
            <a:ext cx="10690200" cy="4419720"/>
          </a:xfrm>
          <a:prstGeom prst="rect">
            <a:avLst/>
          </a:prstGeom>
          <a:ln w="0">
            <a:noFill/>
          </a:ln>
        </p:spPr>
      </p:pic>
      <p:sp>
        <p:nvSpPr>
          <p:cNvPr id="85" name="矩形 3"/>
          <p:cNvSpPr/>
          <p:nvPr/>
        </p:nvSpPr>
        <p:spPr>
          <a:xfrm>
            <a:off x="6746760" y="1992240"/>
            <a:ext cx="1446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6888240" y="3932280"/>
            <a:ext cx="1184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658800" y="2049480"/>
            <a:ext cx="10874520" cy="275904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6827760" y="2063880"/>
            <a:ext cx="165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755640" y="536400"/>
            <a:ext cx="10537920" cy="26290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"/>
          <p:cNvPicPr/>
          <p:nvPr/>
        </p:nvPicPr>
        <p:blipFill>
          <a:blip r:embed="rId2"/>
          <a:stretch/>
        </p:blipFill>
        <p:spPr>
          <a:xfrm>
            <a:off x="825480" y="3421080"/>
            <a:ext cx="10110960" cy="259884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>
            <a:off x="5807160" y="1413000"/>
            <a:ext cx="4213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597640" y="2351160"/>
            <a:ext cx="2811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315120" y="3355920"/>
            <a:ext cx="1020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172200" y="5292720"/>
            <a:ext cx="1230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865080" y="1055520"/>
            <a:ext cx="10317240" cy="460224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6959520" y="1987560"/>
            <a:ext cx="1552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7391520" y="2924280"/>
            <a:ext cx="2811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6958080" y="3860640"/>
            <a:ext cx="1976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888240" y="4797360"/>
            <a:ext cx="215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887400" y="1135080"/>
            <a:ext cx="10417320" cy="458784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>
            <a:off x="7248600" y="1123920"/>
            <a:ext cx="280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7534440" y="2131920"/>
            <a:ext cx="2212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6889680" y="3068640"/>
            <a:ext cx="370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6888240" y="4076640"/>
            <a:ext cx="370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959520" y="5013360"/>
            <a:ext cx="1374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652320" y="615960"/>
            <a:ext cx="10744200" cy="16081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"/>
          <p:cNvPicPr/>
          <p:nvPr/>
        </p:nvPicPr>
        <p:blipFill>
          <a:blip r:embed="rId2"/>
          <a:stretch/>
        </p:blipFill>
        <p:spPr>
          <a:xfrm>
            <a:off x="1343160" y="2494080"/>
            <a:ext cx="224136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5" descr=""/>
          <p:cNvPicPr/>
          <p:nvPr/>
        </p:nvPicPr>
        <p:blipFill>
          <a:blip r:embed="rId3"/>
          <a:stretch/>
        </p:blipFill>
        <p:spPr>
          <a:xfrm>
            <a:off x="1244520" y="3376440"/>
            <a:ext cx="10134720" cy="677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6" descr=""/>
          <p:cNvPicPr/>
          <p:nvPr/>
        </p:nvPicPr>
        <p:blipFill>
          <a:blip r:embed="rId4"/>
          <a:stretch/>
        </p:blipFill>
        <p:spPr>
          <a:xfrm>
            <a:off x="619200" y="4441680"/>
            <a:ext cx="10667880" cy="702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7"/>
          <p:cNvSpPr/>
          <p:nvPr/>
        </p:nvSpPr>
        <p:spPr>
          <a:xfrm>
            <a:off x="550800" y="3355920"/>
            <a:ext cx="11198160" cy="18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639720" y="1601640"/>
            <a:ext cx="10912680" cy="16462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"/>
          <p:cNvPicPr/>
          <p:nvPr/>
        </p:nvPicPr>
        <p:blipFill>
          <a:blip r:embed="rId2"/>
          <a:stretch/>
        </p:blipFill>
        <p:spPr>
          <a:xfrm>
            <a:off x="1200240" y="3718080"/>
            <a:ext cx="4800600" cy="639720"/>
          </a:xfrm>
          <a:prstGeom prst="rect">
            <a:avLst/>
          </a:prstGeom>
          <a:ln w="0">
            <a:noFill/>
          </a:ln>
        </p:spPr>
      </p:pic>
      <p:sp>
        <p:nvSpPr>
          <p:cNvPr id="113" name="矩形 3"/>
          <p:cNvSpPr/>
          <p:nvPr/>
        </p:nvSpPr>
        <p:spPr>
          <a:xfrm>
            <a:off x="1055520" y="2492280"/>
            <a:ext cx="10677600" cy="19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2:37:03Z</dcterms:modified>
  <cp:revision>3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