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6C4-8D5F-4E75-B0AD-63C37D5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CA5-CDB5-4583-9A94-2893E2C8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46D-1EC8-4D00-ACFC-A59FE00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3AE-95AA-4B59-96C6-FD0A436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991-62A4-4993-AB60-F800ED81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F7B-7C8C-4412-A6C0-552D84C2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7FA-E8A4-4BEF-8AC7-F2DDC62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EF1-19C4-47F1-9B32-A5CEAAC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950-3750-45C5-83F2-5BDB2C2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F8D-13D0-4E0F-9CA3-3E5268C4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9CC-8890-41B4-ADC5-FF749455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DE0-0771-4FDA-9DAE-91C19BE2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40EC-0DF8-49E1-A370-9D42A6C72D2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C87-E15B-4C2F-9CC7-0D570805C1E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044720" y="2390760"/>
            <a:ext cx="1010268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725400" y="425520"/>
            <a:ext cx="10453680" cy="5576760"/>
          </a:xfrm>
          <a:prstGeom prst="rect">
            <a:avLst/>
          </a:prstGeom>
          <a:ln w="0">
            <a:noFill/>
          </a:ln>
        </p:spPr>
      </p:pic>
      <p:sp>
        <p:nvSpPr>
          <p:cNvPr id="115" name="矩形 4"/>
          <p:cNvSpPr/>
          <p:nvPr/>
        </p:nvSpPr>
        <p:spPr>
          <a:xfrm>
            <a:off x="6456240" y="404640"/>
            <a:ext cx="1557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6527880" y="2852640"/>
            <a:ext cx="1069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6311880" y="5229360"/>
            <a:ext cx="1747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471600" y="1101600"/>
            <a:ext cx="10675800" cy="436716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6384960" y="1052640"/>
            <a:ext cx="961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6311880" y="2276640"/>
            <a:ext cx="45370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6311880" y="4724280"/>
            <a:ext cx="2260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604800" y="1730520"/>
            <a:ext cx="10409400" cy="31096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384960" y="1628640"/>
            <a:ext cx="4130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6167520" y="4076640"/>
            <a:ext cx="1271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727200" y="1557360"/>
            <a:ext cx="10737720" cy="3170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4"/>
          <p:cNvSpPr/>
          <p:nvPr/>
        </p:nvSpPr>
        <p:spPr>
          <a:xfrm>
            <a:off x="7248600" y="2708280"/>
            <a:ext cx="3292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7392960" y="4003560"/>
            <a:ext cx="1120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590400" y="1616040"/>
            <a:ext cx="10866600" cy="333864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7319880" y="1616040"/>
            <a:ext cx="1384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7481880" y="2852640"/>
            <a:ext cx="1392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7391520" y="4076640"/>
            <a:ext cx="296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14440" y="369720"/>
            <a:ext cx="11163240" cy="1668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1055520" y="2135160"/>
            <a:ext cx="9128160" cy="6620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" descr=""/>
          <p:cNvPicPr/>
          <p:nvPr/>
        </p:nvPicPr>
        <p:blipFill>
          <a:blip r:embed="rId3"/>
          <a:stretch/>
        </p:blipFill>
        <p:spPr>
          <a:xfrm>
            <a:off x="1060560" y="2968560"/>
            <a:ext cx="10645560" cy="6336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4"/>
          <a:stretch/>
        </p:blipFill>
        <p:spPr>
          <a:xfrm>
            <a:off x="730080" y="3754440"/>
            <a:ext cx="11018880" cy="639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"/>
          <p:cNvPicPr/>
          <p:nvPr/>
        </p:nvPicPr>
        <p:blipFill>
          <a:blip r:embed="rId5"/>
          <a:stretch/>
        </p:blipFill>
        <p:spPr>
          <a:xfrm>
            <a:off x="746280" y="4635360"/>
            <a:ext cx="10842480" cy="6019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"/>
          <p:cNvPicPr/>
          <p:nvPr/>
        </p:nvPicPr>
        <p:blipFill>
          <a:blip r:embed="rId6"/>
          <a:stretch/>
        </p:blipFill>
        <p:spPr>
          <a:xfrm>
            <a:off x="766800" y="5445000"/>
            <a:ext cx="2293920" cy="631800"/>
          </a:xfrm>
          <a:prstGeom prst="rect">
            <a:avLst/>
          </a:prstGeom>
          <a:ln w="0">
            <a:noFill/>
          </a:ln>
        </p:spPr>
      </p:pic>
      <p:sp>
        <p:nvSpPr>
          <p:cNvPr id="138" name="矩形 7"/>
          <p:cNvSpPr/>
          <p:nvPr/>
        </p:nvSpPr>
        <p:spPr>
          <a:xfrm>
            <a:off x="603360" y="2870280"/>
            <a:ext cx="11142720" cy="31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388800" y="1576440"/>
            <a:ext cx="11414160" cy="5475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2"/>
          <a:stretch/>
        </p:blipFill>
        <p:spPr>
          <a:xfrm>
            <a:off x="928800" y="2651040"/>
            <a:ext cx="10621800" cy="6937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" descr=""/>
          <p:cNvPicPr/>
          <p:nvPr/>
        </p:nvPicPr>
        <p:blipFill>
          <a:blip r:embed="rId3"/>
          <a:stretch/>
        </p:blipFill>
        <p:spPr>
          <a:xfrm>
            <a:off x="939960" y="3746520"/>
            <a:ext cx="9882000" cy="65556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914400" y="2708280"/>
            <a:ext cx="10779120" cy="21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2" descr=""/>
          <p:cNvPicPr/>
          <p:nvPr/>
        </p:nvPicPr>
        <p:blipFill>
          <a:blip r:embed="rId1"/>
          <a:stretch/>
        </p:blipFill>
        <p:spPr>
          <a:xfrm>
            <a:off x="650880" y="1533600"/>
            <a:ext cx="10890360" cy="16383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" descr=""/>
          <p:cNvPicPr/>
          <p:nvPr/>
        </p:nvPicPr>
        <p:blipFill>
          <a:blip r:embed="rId2"/>
          <a:stretch/>
        </p:blipFill>
        <p:spPr>
          <a:xfrm>
            <a:off x="1127160" y="3645000"/>
            <a:ext cx="2789280" cy="6634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914400" y="2494080"/>
            <a:ext cx="1077912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758880" y="1084320"/>
            <a:ext cx="10674360" cy="6714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2"/>
          <a:stretch/>
        </p:blipFill>
        <p:spPr>
          <a:xfrm>
            <a:off x="1271520" y="2062080"/>
            <a:ext cx="1281240" cy="609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"/>
          <p:cNvPicPr/>
          <p:nvPr/>
        </p:nvPicPr>
        <p:blipFill>
          <a:blip r:embed="rId3"/>
          <a:stretch/>
        </p:blipFill>
        <p:spPr>
          <a:xfrm>
            <a:off x="1185840" y="3157560"/>
            <a:ext cx="103935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"/>
          <p:cNvPicPr/>
          <p:nvPr/>
        </p:nvPicPr>
        <p:blipFill>
          <a:blip r:embed="rId4"/>
          <a:stretch/>
        </p:blipFill>
        <p:spPr>
          <a:xfrm>
            <a:off x="1252440" y="4241880"/>
            <a:ext cx="8969400" cy="669960"/>
          </a:xfrm>
          <a:prstGeom prst="rect">
            <a:avLst/>
          </a:prstGeom>
          <a:ln w="0">
            <a:noFill/>
          </a:ln>
        </p:spPr>
      </p:pic>
      <p:sp>
        <p:nvSpPr>
          <p:cNvPr id="150" name="矩形 5"/>
          <p:cNvSpPr/>
          <p:nvPr/>
        </p:nvSpPr>
        <p:spPr>
          <a:xfrm>
            <a:off x="914400" y="3211560"/>
            <a:ext cx="1077912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846000" y="1536840"/>
            <a:ext cx="10499760" cy="1631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" descr=""/>
          <p:cNvPicPr/>
          <p:nvPr/>
        </p:nvPicPr>
        <p:blipFill>
          <a:blip r:embed="rId2"/>
          <a:stretch/>
        </p:blipFill>
        <p:spPr>
          <a:xfrm>
            <a:off x="1417680" y="3429000"/>
            <a:ext cx="9791640" cy="655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3"/>
          <a:stretch/>
        </p:blipFill>
        <p:spPr>
          <a:xfrm>
            <a:off x="1343160" y="4437000"/>
            <a:ext cx="1920600" cy="747720"/>
          </a:xfrm>
          <a:prstGeom prst="rect">
            <a:avLst/>
          </a:prstGeom>
          <a:ln w="0">
            <a:noFill/>
          </a:ln>
        </p:spPr>
      </p:pic>
      <p:sp>
        <p:nvSpPr>
          <p:cNvPr id="154" name="矩形 5"/>
          <p:cNvSpPr/>
          <p:nvPr/>
        </p:nvSpPr>
        <p:spPr>
          <a:xfrm>
            <a:off x="914400" y="2494080"/>
            <a:ext cx="10779120" cy="27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74720" y="1117440"/>
            <a:ext cx="104997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6816600" y="3357720"/>
            <a:ext cx="29624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872400" y="4560840"/>
            <a:ext cx="296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892080" y="1689120"/>
            <a:ext cx="10407600" cy="1614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>
            <a:off x="1415880" y="3789360"/>
            <a:ext cx="4281480" cy="677880"/>
          </a:xfrm>
          <a:prstGeom prst="rect">
            <a:avLst/>
          </a:prstGeom>
          <a:ln w="0">
            <a:noFill/>
          </a:ln>
        </p:spPr>
      </p:pic>
      <p:sp>
        <p:nvSpPr>
          <p:cNvPr id="157" name="矩形 5"/>
          <p:cNvSpPr/>
          <p:nvPr/>
        </p:nvSpPr>
        <p:spPr>
          <a:xfrm>
            <a:off x="914400" y="2637000"/>
            <a:ext cx="10779120" cy="18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89040" y="1463760"/>
            <a:ext cx="10814040" cy="2065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754200" y="4332240"/>
            <a:ext cx="10683720" cy="77616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6816600" y="1557360"/>
            <a:ext cx="4511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6311880" y="2781360"/>
            <a:ext cx="4834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743880" y="4365720"/>
            <a:ext cx="4343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5440" y="657360"/>
            <a:ext cx="10858320" cy="52578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8183520" y="1773360"/>
            <a:ext cx="3164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6527880" y="2924280"/>
            <a:ext cx="296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514440" y="1871640"/>
            <a:ext cx="110188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7751880" y="1844640"/>
            <a:ext cx="3484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6095880" y="3000240"/>
            <a:ext cx="4251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739800" y="1303200"/>
            <a:ext cx="10712520" cy="425160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8039160" y="1339920"/>
            <a:ext cx="3436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6313320" y="2563920"/>
            <a:ext cx="709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414360" y="701640"/>
            <a:ext cx="10790280" cy="1866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6888240" y="1844640"/>
            <a:ext cx="3504960" cy="6318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"/>
          <p:cNvPicPr/>
          <p:nvPr/>
        </p:nvPicPr>
        <p:blipFill>
          <a:blip r:embed="rId3"/>
          <a:stretch/>
        </p:blipFill>
        <p:spPr>
          <a:xfrm>
            <a:off x="414360" y="2565360"/>
            <a:ext cx="664380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4"/>
          <a:stretch/>
        </p:blipFill>
        <p:spPr>
          <a:xfrm>
            <a:off x="7319880" y="2997360"/>
            <a:ext cx="4183200" cy="7077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" descr=""/>
          <p:cNvPicPr/>
          <p:nvPr/>
        </p:nvPicPr>
        <p:blipFill>
          <a:blip r:embed="rId5"/>
          <a:stretch/>
        </p:blipFill>
        <p:spPr>
          <a:xfrm>
            <a:off x="1415880" y="4149720"/>
            <a:ext cx="5645160" cy="1347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" descr=""/>
          <p:cNvPicPr/>
          <p:nvPr/>
        </p:nvPicPr>
        <p:blipFill>
          <a:blip r:embed="rId6"/>
          <a:stretch/>
        </p:blipFill>
        <p:spPr>
          <a:xfrm>
            <a:off x="7248600" y="4653000"/>
            <a:ext cx="3336840" cy="595440"/>
          </a:xfrm>
          <a:prstGeom prst="rect">
            <a:avLst/>
          </a:prstGeom>
          <a:ln w="0">
            <a:noFill/>
          </a:ln>
        </p:spPr>
      </p:pic>
      <p:sp>
        <p:nvSpPr>
          <p:cNvPr id="103" name="矩形 8"/>
          <p:cNvSpPr/>
          <p:nvPr/>
        </p:nvSpPr>
        <p:spPr>
          <a:xfrm>
            <a:off x="6961320" y="1773360"/>
            <a:ext cx="1171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7431120" y="2998800"/>
            <a:ext cx="1246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7431120" y="4579920"/>
            <a:ext cx="1068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682560" y="1092240"/>
            <a:ext cx="10684080" cy="4243320"/>
          </a:xfrm>
          <a:prstGeom prst="rect">
            <a:avLst/>
          </a:prstGeom>
          <a:ln w="0">
            <a:noFill/>
          </a:ln>
        </p:spPr>
      </p:pic>
      <p:sp>
        <p:nvSpPr>
          <p:cNvPr id="107" name="矩形 4"/>
          <p:cNvSpPr/>
          <p:nvPr/>
        </p:nvSpPr>
        <p:spPr>
          <a:xfrm>
            <a:off x="6959520" y="1123920"/>
            <a:ext cx="115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6888240" y="2276640"/>
            <a:ext cx="41608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6888240" y="4508640"/>
            <a:ext cx="13968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1251000" y="279360"/>
            <a:ext cx="9402840" cy="5908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6095880" y="1260360"/>
            <a:ext cx="1425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5956200" y="3429000"/>
            <a:ext cx="1679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5956200" y="5581800"/>
            <a:ext cx="14176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5:22:31Z</dcterms:modified>
  <cp:revision>3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