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346-E339-4FDD-B3E5-F56DB1E6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4E2-1B85-4CE5-967C-53699CBE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922-1913-4712-BEF9-BD3389E8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F59-019E-45AA-8A31-63587C1D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235-3BEA-42DB-ABB1-356B98A0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2A3-A3B7-4C5D-9795-47DCFE5A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C76-57DE-49F7-A38B-0AA83850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E84-53DE-47F2-95ED-E546E92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83E-A13F-412C-90BD-AC3E6288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E0E-4B1D-403C-A05D-5FDBE7B4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D19-10F9-4F7B-80D6-AA3C9655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2D7-2C3D-4D84-A713-7C41DB9F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1182-1BE6-4651-8C4D-5B9006C72D4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5DD0-6797-4618-AD33-F598748B21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387440" y="2473200"/>
            <a:ext cx="941724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892080" y="1128600"/>
            <a:ext cx="10265040" cy="4457880"/>
          </a:xfrm>
          <a:prstGeom prst="rect">
            <a:avLst/>
          </a:prstGeom>
          <a:ln w="0">
            <a:noFill/>
          </a:ln>
        </p:spPr>
      </p:pic>
      <p:sp>
        <p:nvSpPr>
          <p:cNvPr id="113" name="矩形 3"/>
          <p:cNvSpPr/>
          <p:nvPr/>
        </p:nvSpPr>
        <p:spPr>
          <a:xfrm>
            <a:off x="7608960" y="1123920"/>
            <a:ext cx="2462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7534440" y="1989000"/>
            <a:ext cx="2031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7392960" y="2924280"/>
            <a:ext cx="246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7535880" y="3789360"/>
            <a:ext cx="1762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7464600" y="4654440"/>
            <a:ext cx="1697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503280" y="947880"/>
            <a:ext cx="11185560" cy="25225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" descr=""/>
          <p:cNvPicPr/>
          <p:nvPr/>
        </p:nvPicPr>
        <p:blipFill>
          <a:blip r:embed="rId2"/>
          <a:stretch/>
        </p:blipFill>
        <p:spPr>
          <a:xfrm>
            <a:off x="1055520" y="3860640"/>
            <a:ext cx="3856320" cy="702000"/>
          </a:xfrm>
          <a:prstGeom prst="rect">
            <a:avLst/>
          </a:prstGeom>
          <a:ln w="0">
            <a:noFill/>
          </a:ln>
        </p:spPr>
      </p:pic>
      <p:sp>
        <p:nvSpPr>
          <p:cNvPr id="120" name="矩形 3"/>
          <p:cNvSpPr/>
          <p:nvPr/>
        </p:nvSpPr>
        <p:spPr>
          <a:xfrm>
            <a:off x="914400" y="2781360"/>
            <a:ext cx="10845720" cy="19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" descr=""/>
          <p:cNvPicPr/>
          <p:nvPr/>
        </p:nvPicPr>
        <p:blipFill>
          <a:blip r:embed="rId1"/>
          <a:stretch/>
        </p:blipFill>
        <p:spPr>
          <a:xfrm>
            <a:off x="631800" y="831960"/>
            <a:ext cx="10928520" cy="6015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" descr=""/>
          <p:cNvPicPr/>
          <p:nvPr/>
        </p:nvPicPr>
        <p:blipFill>
          <a:blip r:embed="rId2"/>
          <a:stretch/>
        </p:blipFill>
        <p:spPr>
          <a:xfrm>
            <a:off x="1127160" y="1773360"/>
            <a:ext cx="4489560" cy="601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4" descr=""/>
          <p:cNvPicPr/>
          <p:nvPr/>
        </p:nvPicPr>
        <p:blipFill>
          <a:blip r:embed="rId3"/>
          <a:stretch/>
        </p:blipFill>
        <p:spPr>
          <a:xfrm>
            <a:off x="1166760" y="2855880"/>
            <a:ext cx="10431360" cy="5716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5" descr=""/>
          <p:cNvPicPr/>
          <p:nvPr/>
        </p:nvPicPr>
        <p:blipFill>
          <a:blip r:embed="rId4"/>
          <a:stretch/>
        </p:blipFill>
        <p:spPr>
          <a:xfrm>
            <a:off x="426960" y="3814920"/>
            <a:ext cx="11337840" cy="6634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" descr=""/>
          <p:cNvPicPr/>
          <p:nvPr/>
        </p:nvPicPr>
        <p:blipFill>
          <a:blip r:embed="rId5"/>
          <a:stretch/>
        </p:blipFill>
        <p:spPr>
          <a:xfrm>
            <a:off x="406440" y="4849920"/>
            <a:ext cx="5989680" cy="693720"/>
          </a:xfrm>
          <a:prstGeom prst="rect">
            <a:avLst/>
          </a:prstGeom>
          <a:ln w="0">
            <a:noFill/>
          </a:ln>
        </p:spPr>
      </p:pic>
      <p:sp>
        <p:nvSpPr>
          <p:cNvPr id="126" name="矩形 7"/>
          <p:cNvSpPr/>
          <p:nvPr/>
        </p:nvSpPr>
        <p:spPr>
          <a:xfrm>
            <a:off x="430200" y="2781360"/>
            <a:ext cx="11299680" cy="27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/>
          <p:cNvPicPr/>
          <p:nvPr/>
        </p:nvPicPr>
        <p:blipFill>
          <a:blip r:embed="rId1"/>
          <a:stretch/>
        </p:blipFill>
        <p:spPr>
          <a:xfrm>
            <a:off x="644400" y="1650960"/>
            <a:ext cx="10902960" cy="15462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2"/>
          <a:stretch/>
        </p:blipFill>
        <p:spPr>
          <a:xfrm>
            <a:off x="1271520" y="3543480"/>
            <a:ext cx="4716360" cy="776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3"/>
          <p:cNvSpPr/>
          <p:nvPr/>
        </p:nvSpPr>
        <p:spPr>
          <a:xfrm>
            <a:off x="1147680" y="2494080"/>
            <a:ext cx="10620360" cy="19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514440" y="1533600"/>
            <a:ext cx="11163240" cy="16383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1130400" y="3716280"/>
            <a:ext cx="3755880" cy="708120"/>
          </a:xfrm>
          <a:prstGeom prst="rect">
            <a:avLst/>
          </a:prstGeom>
          <a:ln w="0">
            <a:noFill/>
          </a:ln>
        </p:spPr>
      </p:pic>
      <p:sp>
        <p:nvSpPr>
          <p:cNvPr id="132" name="矩形 3"/>
          <p:cNvSpPr/>
          <p:nvPr/>
        </p:nvSpPr>
        <p:spPr>
          <a:xfrm>
            <a:off x="911160" y="2419200"/>
            <a:ext cx="10810800" cy="22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1282680" y="1393920"/>
            <a:ext cx="9196560" cy="16304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"/>
          <p:cNvPicPr/>
          <p:nvPr/>
        </p:nvPicPr>
        <p:blipFill>
          <a:blip r:embed="rId2"/>
          <a:stretch/>
        </p:blipFill>
        <p:spPr>
          <a:xfrm>
            <a:off x="1822320" y="3500280"/>
            <a:ext cx="3246480" cy="723960"/>
          </a:xfrm>
          <a:prstGeom prst="rect">
            <a:avLst/>
          </a:prstGeom>
          <a:ln w="0">
            <a:noFill/>
          </a:ln>
        </p:spPr>
      </p:pic>
      <p:sp>
        <p:nvSpPr>
          <p:cNvPr id="135" name="矩形 3"/>
          <p:cNvSpPr/>
          <p:nvPr/>
        </p:nvSpPr>
        <p:spPr>
          <a:xfrm>
            <a:off x="1633680" y="2276640"/>
            <a:ext cx="9102600" cy="18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93720" y="1147680"/>
            <a:ext cx="10804680" cy="427536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6816600" y="2852640"/>
            <a:ext cx="246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9767880" y="4653000"/>
            <a:ext cx="1689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743040" y="1944720"/>
            <a:ext cx="10706040" cy="253836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10090080" y="1917720"/>
            <a:ext cx="1346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6315120" y="2852640"/>
            <a:ext cx="1911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10118880" y="3716280"/>
            <a:ext cx="1463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704880" y="1500120"/>
            <a:ext cx="10782360" cy="328464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8040600" y="2347920"/>
            <a:ext cx="3446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6242040" y="3211560"/>
            <a:ext cx="2638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693720" y="2050920"/>
            <a:ext cx="10804680" cy="246852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7680240" y="2131920"/>
            <a:ext cx="2460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765000" y="1144440"/>
            <a:ext cx="10661760" cy="42814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6816600" y="1919160"/>
            <a:ext cx="246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6816600" y="2852640"/>
            <a:ext cx="246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7015320" y="3697200"/>
            <a:ext cx="3430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6943680" y="4629240"/>
            <a:ext cx="1614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641520" y="1733400"/>
            <a:ext cx="10621800" cy="2530800"/>
          </a:xfrm>
          <a:prstGeom prst="rect">
            <a:avLst/>
          </a:prstGeom>
          <a:ln w="0">
            <a:noFill/>
          </a:ln>
        </p:spPr>
      </p:pic>
      <p:sp>
        <p:nvSpPr>
          <p:cNvPr id="98" name="矩形 2"/>
          <p:cNvSpPr/>
          <p:nvPr/>
        </p:nvSpPr>
        <p:spPr>
          <a:xfrm>
            <a:off x="6816600" y="1776240"/>
            <a:ext cx="2975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959520" y="3498840"/>
            <a:ext cx="2832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693720" y="1257480"/>
            <a:ext cx="10659960" cy="4198680"/>
          </a:xfrm>
          <a:prstGeom prst="rect">
            <a:avLst/>
          </a:prstGeom>
          <a:ln w="0">
            <a:noFill/>
          </a:ln>
        </p:spPr>
      </p:pic>
      <p:sp>
        <p:nvSpPr>
          <p:cNvPr id="101" name="矩形 2"/>
          <p:cNvSpPr/>
          <p:nvPr/>
        </p:nvSpPr>
        <p:spPr>
          <a:xfrm>
            <a:off x="7520040" y="2063880"/>
            <a:ext cx="1334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7294680" y="2995560"/>
            <a:ext cx="1363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7475400" y="3857760"/>
            <a:ext cx="1443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7394400" y="4718160"/>
            <a:ext cx="3368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712800" y="695160"/>
            <a:ext cx="10621800" cy="518184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/>
          <p:cNvSpPr/>
          <p:nvPr/>
        </p:nvSpPr>
        <p:spPr>
          <a:xfrm>
            <a:off x="7464600" y="692280"/>
            <a:ext cx="1563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7392960" y="1628640"/>
            <a:ext cx="789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7464600" y="2492280"/>
            <a:ext cx="2462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7391520" y="3354480"/>
            <a:ext cx="2460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7318440" y="4222800"/>
            <a:ext cx="1807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7392960" y="5156280"/>
            <a:ext cx="246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2:27:27Z</dcterms:modified>
  <cp:revision>3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