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B85-A425-4B33-9480-89496FAD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449-BEF1-467E-A8F4-0B3C680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694-A10E-4A3A-95D3-4F83C7AE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00F-44ED-4457-A6A9-B131040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E65-094A-4CC9-93D4-80F2C2B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014-841D-4691-A81A-F21781AF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8A4-15E4-499E-8B6A-B901142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772-3A67-43C2-A81A-82222CA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18B-7F16-452D-A06C-135C7A3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D52-D257-4F16-8B72-E0C545A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F94-AA44-4728-B208-9A1B513B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C23-9A88-4525-B2C1-8AFE8469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7FF-F499-4FB2-A20D-C418E8524BA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7589-31A0-4695-88AA-47941737B0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066680" y="2432160"/>
            <a:ext cx="100584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447840" y="590400"/>
            <a:ext cx="10866240" cy="15163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" descr=""/>
          <p:cNvPicPr/>
          <p:nvPr/>
        </p:nvPicPr>
        <p:blipFill>
          <a:blip r:embed="rId2"/>
          <a:stretch/>
        </p:blipFill>
        <p:spPr>
          <a:xfrm>
            <a:off x="1055520" y="2422440"/>
            <a:ext cx="7917120" cy="7398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4" descr=""/>
          <p:cNvPicPr/>
          <p:nvPr/>
        </p:nvPicPr>
        <p:blipFill>
          <a:blip r:embed="rId3"/>
          <a:stretch/>
        </p:blipFill>
        <p:spPr>
          <a:xfrm>
            <a:off x="396720" y="3441600"/>
            <a:ext cx="11333160" cy="15541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"/>
          <p:cNvPicPr/>
          <p:nvPr/>
        </p:nvPicPr>
        <p:blipFill>
          <a:blip r:embed="rId4"/>
          <a:stretch/>
        </p:blipFill>
        <p:spPr>
          <a:xfrm>
            <a:off x="984240" y="5300640"/>
            <a:ext cx="5280120" cy="785880"/>
          </a:xfrm>
          <a:prstGeom prst="rect">
            <a:avLst/>
          </a:prstGeom>
          <a:ln w="0">
            <a:noFill/>
          </a:ln>
        </p:spPr>
      </p:pic>
      <p:sp>
        <p:nvSpPr>
          <p:cNvPr id="116" name="矩形 6"/>
          <p:cNvSpPr/>
          <p:nvPr/>
        </p:nvSpPr>
        <p:spPr>
          <a:xfrm>
            <a:off x="984240" y="1487520"/>
            <a:ext cx="1078236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984240" y="4286160"/>
            <a:ext cx="10782360" cy="17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09560" y="457200"/>
            <a:ext cx="106300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587520" y="3456000"/>
            <a:ext cx="11017080" cy="252900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9839160" y="2276640"/>
            <a:ext cx="10162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8256600" y="4292640"/>
            <a:ext cx="25639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84080" y="851040"/>
            <a:ext cx="10623600" cy="501336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8400960" y="763560"/>
            <a:ext cx="17431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8543880" y="3429000"/>
            <a:ext cx="15987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723960" y="1090440"/>
            <a:ext cx="1074420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9408960" y="2060640"/>
            <a:ext cx="12304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9337680" y="3862440"/>
            <a:ext cx="13366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695160" y="979560"/>
            <a:ext cx="278136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2"/>
          <a:stretch/>
        </p:blipFill>
        <p:spPr>
          <a:xfrm>
            <a:off x="1316160" y="1863720"/>
            <a:ext cx="10134360" cy="3703680"/>
          </a:xfrm>
          <a:prstGeom prst="rect">
            <a:avLst/>
          </a:prstGeom>
          <a:ln w="0">
            <a:noFill/>
          </a:ln>
        </p:spPr>
      </p:pic>
      <p:sp>
        <p:nvSpPr>
          <p:cNvPr id="92" name="矩形 6"/>
          <p:cNvSpPr/>
          <p:nvPr/>
        </p:nvSpPr>
        <p:spPr>
          <a:xfrm>
            <a:off x="7032600" y="1987560"/>
            <a:ext cx="603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7104240" y="3787920"/>
            <a:ext cx="43462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7032600" y="4653000"/>
            <a:ext cx="32958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774720" y="476280"/>
            <a:ext cx="10499760" cy="5624640"/>
          </a:xfrm>
          <a:prstGeom prst="rect">
            <a:avLst/>
          </a:prstGeom>
          <a:ln w="0">
            <a:noFill/>
          </a:ln>
        </p:spPr>
      </p:pic>
      <p:sp>
        <p:nvSpPr>
          <p:cNvPr id="96" name="矩形 6"/>
          <p:cNvSpPr/>
          <p:nvPr/>
        </p:nvSpPr>
        <p:spPr>
          <a:xfrm>
            <a:off x="7608960" y="1195560"/>
            <a:ext cx="20304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7608960" y="2060640"/>
            <a:ext cx="25639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7607160" y="2852640"/>
            <a:ext cx="27338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7537320" y="3738600"/>
            <a:ext cx="10954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7693200" y="4581360"/>
            <a:ext cx="20206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7607160" y="5445000"/>
            <a:ext cx="14655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701640" y="1090440"/>
            <a:ext cx="10788840" cy="438948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8112240" y="2060640"/>
            <a:ext cx="34304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6384960" y="2997360"/>
            <a:ext cx="515772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7608960" y="4724280"/>
            <a:ext cx="652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449280" y="1038240"/>
            <a:ext cx="11293560" cy="2484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" descr=""/>
          <p:cNvPicPr/>
          <p:nvPr/>
        </p:nvPicPr>
        <p:blipFill>
          <a:blip r:embed="rId2"/>
          <a:stretch/>
        </p:blipFill>
        <p:spPr>
          <a:xfrm>
            <a:off x="984240" y="4003560"/>
            <a:ext cx="5340240" cy="808200"/>
          </a:xfrm>
          <a:prstGeom prst="rect">
            <a:avLst/>
          </a:prstGeom>
          <a:ln w="0">
            <a:noFill/>
          </a:ln>
        </p:spPr>
      </p:pic>
      <p:sp>
        <p:nvSpPr>
          <p:cNvPr id="108" name="矩形 6"/>
          <p:cNvSpPr/>
          <p:nvPr/>
        </p:nvSpPr>
        <p:spPr>
          <a:xfrm>
            <a:off x="914400" y="2854440"/>
            <a:ext cx="10820520" cy="19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388800" y="1555920"/>
            <a:ext cx="11360160" cy="3314520"/>
          </a:xfrm>
          <a:prstGeom prst="rect">
            <a:avLst/>
          </a:prstGeom>
          <a:ln w="0">
            <a:noFill/>
          </a:ln>
        </p:spPr>
      </p:pic>
      <p:sp>
        <p:nvSpPr>
          <p:cNvPr id="110" name="矩形 6"/>
          <p:cNvSpPr/>
          <p:nvPr/>
        </p:nvSpPr>
        <p:spPr>
          <a:xfrm>
            <a:off x="984240" y="2421000"/>
            <a:ext cx="1078236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871560" y="4197240"/>
            <a:ext cx="1087740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8:28:27Z</dcterms:modified>
  <cp:revision>3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