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B4E-2859-4CC7-8456-57C100CA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7D9-E992-4845-B3C4-D008BD54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3D9-D499-410B-9BE2-0F417E3D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AD3-1BA8-4726-B2CC-D773C799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826-EC1E-44C5-9CEA-4B9AA45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46E-0423-4116-84BE-1AC51391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24E-E1F9-4917-9ECE-11E79E72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9EF-9FC8-416B-B1BA-6582361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88D-F8AC-418C-9CDC-6B99F0EF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17D-0286-457F-B50F-A78078B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24D-9729-4549-A191-0B9F3656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420-FC79-40FE-AA79-6C6F2521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BD9-5233-424F-80E3-5C5CE4C9FBB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ED6-D2FD-441A-9BC2-F894C0157F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2076480" y="2529000"/>
            <a:ext cx="803916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887400" y="1254240"/>
            <a:ext cx="10417320" cy="16221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" descr=""/>
          <p:cNvPicPr/>
          <p:nvPr/>
        </p:nvPicPr>
        <p:blipFill>
          <a:blip r:embed="rId2"/>
          <a:stretch/>
        </p:blipFill>
        <p:spPr>
          <a:xfrm>
            <a:off x="847800" y="3352680"/>
            <a:ext cx="8343720" cy="173052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1417680" y="2205000"/>
            <a:ext cx="1003932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1417680" y="4363920"/>
            <a:ext cx="7894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399960" y="1158840"/>
            <a:ext cx="11391840" cy="25304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" descr=""/>
          <p:cNvPicPr/>
          <p:nvPr/>
        </p:nvPicPr>
        <p:blipFill>
          <a:blip r:embed="rId2"/>
          <a:stretch/>
        </p:blipFill>
        <p:spPr>
          <a:xfrm>
            <a:off x="847800" y="3932280"/>
            <a:ext cx="10782360" cy="7160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tretch/>
        </p:blipFill>
        <p:spPr>
          <a:xfrm>
            <a:off x="984240" y="4940280"/>
            <a:ext cx="1758960" cy="641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5"/>
          <p:cNvSpPr/>
          <p:nvPr/>
        </p:nvSpPr>
        <p:spPr>
          <a:xfrm>
            <a:off x="841320" y="2133720"/>
            <a:ext cx="1095048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984240" y="3978360"/>
            <a:ext cx="1069992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1774800" y="1773360"/>
            <a:ext cx="7048440" cy="1842840"/>
          </a:xfrm>
          <a:prstGeom prst="rect">
            <a:avLst/>
          </a:prstGeom>
          <a:ln w="0">
            <a:noFill/>
          </a:ln>
        </p:spPr>
      </p:pic>
      <p:sp>
        <p:nvSpPr>
          <p:cNvPr id="126" name="矩形 5"/>
          <p:cNvSpPr/>
          <p:nvPr/>
        </p:nvSpPr>
        <p:spPr>
          <a:xfrm>
            <a:off x="2279520" y="2781360"/>
            <a:ext cx="686772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77880" y="1174680"/>
            <a:ext cx="10836360" cy="422136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8400960" y="3427560"/>
            <a:ext cx="23241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8831160" y="4581360"/>
            <a:ext cx="12049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754200" y="1041480"/>
            <a:ext cx="1068372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5251320" y="3094200"/>
            <a:ext cx="4991400" cy="669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"/>
          <p:cNvPicPr/>
          <p:nvPr/>
        </p:nvPicPr>
        <p:blipFill>
          <a:blip r:embed="rId3"/>
          <a:stretch/>
        </p:blipFill>
        <p:spPr>
          <a:xfrm>
            <a:off x="5375160" y="4148280"/>
            <a:ext cx="862200" cy="6174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" descr=""/>
          <p:cNvPicPr/>
          <p:nvPr/>
        </p:nvPicPr>
        <p:blipFill>
          <a:blip r:embed="rId4"/>
          <a:stretch/>
        </p:blipFill>
        <p:spPr>
          <a:xfrm>
            <a:off x="5375160" y="5203800"/>
            <a:ext cx="3346560" cy="6937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"/>
          <p:cNvPicPr/>
          <p:nvPr/>
        </p:nvPicPr>
        <p:blipFill>
          <a:blip r:embed="rId5"/>
          <a:stretch/>
        </p:blipFill>
        <p:spPr>
          <a:xfrm>
            <a:off x="8832960" y="5235480"/>
            <a:ext cx="10429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"/>
          <p:cNvPicPr/>
          <p:nvPr/>
        </p:nvPicPr>
        <p:blipFill>
          <a:blip r:embed="rId6"/>
          <a:stretch/>
        </p:blipFill>
        <p:spPr>
          <a:xfrm>
            <a:off x="6095880" y="4151160"/>
            <a:ext cx="4275360" cy="586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"/>
          <p:cNvPicPr/>
          <p:nvPr/>
        </p:nvPicPr>
        <p:blipFill>
          <a:blip r:embed="rId7"/>
          <a:stretch/>
        </p:blipFill>
        <p:spPr>
          <a:xfrm>
            <a:off x="10344240" y="4219560"/>
            <a:ext cx="334800" cy="488880"/>
          </a:xfrm>
          <a:prstGeom prst="rect">
            <a:avLst/>
          </a:prstGeom>
          <a:ln w="0">
            <a:noFill/>
          </a:ln>
        </p:spPr>
      </p:pic>
      <p:sp>
        <p:nvSpPr>
          <p:cNvPr id="90" name="矩形 10"/>
          <p:cNvSpPr/>
          <p:nvPr/>
        </p:nvSpPr>
        <p:spPr>
          <a:xfrm>
            <a:off x="8975880" y="1101600"/>
            <a:ext cx="23256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5448240" y="4076640"/>
            <a:ext cx="36576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5519880" y="5229360"/>
            <a:ext cx="38368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601560" y="1685880"/>
            <a:ext cx="1098864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6889680" y="2851200"/>
            <a:ext cx="16318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568440" y="1266840"/>
            <a:ext cx="11055240" cy="403848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6600960" y="1339920"/>
            <a:ext cx="4155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6743880" y="3571920"/>
            <a:ext cx="22572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620640" y="1174680"/>
            <a:ext cx="10950480" cy="422136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>
            <a:off x="6600960" y="2205000"/>
            <a:ext cx="4093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6313320" y="3355920"/>
            <a:ext cx="47530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6529320" y="4437000"/>
            <a:ext cx="14400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1111320" y="1103400"/>
            <a:ext cx="9539280" cy="407664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7035840" y="1123920"/>
            <a:ext cx="26827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7104240" y="2203560"/>
            <a:ext cx="10364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6818400" y="3284640"/>
            <a:ext cx="14796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7104240" y="4363920"/>
            <a:ext cx="15760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"/>
          <p:cNvPicPr/>
          <p:nvPr/>
        </p:nvPicPr>
        <p:blipFill>
          <a:blip r:embed="rId1"/>
          <a:stretch/>
        </p:blipFill>
        <p:spPr>
          <a:xfrm>
            <a:off x="696960" y="876240"/>
            <a:ext cx="1079820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"/>
          <p:cNvPicPr/>
          <p:nvPr/>
        </p:nvPicPr>
        <p:blipFill>
          <a:blip r:embed="rId2"/>
          <a:stretch/>
        </p:blipFill>
        <p:spPr>
          <a:xfrm>
            <a:off x="1271520" y="3932280"/>
            <a:ext cx="6659640" cy="716040"/>
          </a:xfrm>
          <a:prstGeom prst="rect">
            <a:avLst/>
          </a:prstGeom>
          <a:ln w="0">
            <a:noFill/>
          </a:ln>
        </p:spPr>
      </p:pic>
      <p:sp>
        <p:nvSpPr>
          <p:cNvPr id="109" name="矩形 4"/>
          <p:cNvSpPr/>
          <p:nvPr/>
        </p:nvSpPr>
        <p:spPr>
          <a:xfrm>
            <a:off x="1200240" y="2852640"/>
            <a:ext cx="10314000" cy="17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498600" y="434880"/>
            <a:ext cx="1033308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" descr=""/>
          <p:cNvPicPr/>
          <p:nvPr/>
        </p:nvPicPr>
        <p:blipFill>
          <a:blip r:embed="rId2"/>
          <a:stretch/>
        </p:blipFill>
        <p:spPr>
          <a:xfrm>
            <a:off x="1200240" y="2352600"/>
            <a:ext cx="432108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" descr=""/>
          <p:cNvPicPr/>
          <p:nvPr/>
        </p:nvPicPr>
        <p:blipFill>
          <a:blip r:embed="rId3"/>
          <a:stretch/>
        </p:blipFill>
        <p:spPr>
          <a:xfrm>
            <a:off x="552600" y="3193920"/>
            <a:ext cx="11086920" cy="17607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" descr=""/>
          <p:cNvPicPr/>
          <p:nvPr/>
        </p:nvPicPr>
        <p:blipFill>
          <a:blip r:embed="rId4"/>
          <a:stretch/>
        </p:blipFill>
        <p:spPr>
          <a:xfrm>
            <a:off x="1055520" y="5373720"/>
            <a:ext cx="3794400" cy="631800"/>
          </a:xfrm>
          <a:prstGeom prst="rect">
            <a:avLst/>
          </a:prstGeom>
          <a:ln w="0">
            <a:noFill/>
          </a:ln>
        </p:spPr>
      </p:pic>
      <p:sp>
        <p:nvSpPr>
          <p:cNvPr id="114" name="矩形 5"/>
          <p:cNvSpPr/>
          <p:nvPr/>
        </p:nvSpPr>
        <p:spPr>
          <a:xfrm>
            <a:off x="1055520" y="1413000"/>
            <a:ext cx="994284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984240" y="4221000"/>
            <a:ext cx="10655280" cy="18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7:37:04Z</dcterms:modified>
  <cp:revision>3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