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10C-13E3-4CAA-B71C-F30DA80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582-789D-43C6-B75A-00B7266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4C8-26D4-4836-979E-F05845A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3D-2E5B-4119-B5D4-CBCFBEB5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92C-9B05-427A-B309-0C6662A1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90B-DD17-4CBD-AF1E-9972100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247-2A70-48AE-B22F-BF4D9680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213-2309-46CA-9386-025292C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6EA-B657-4795-A622-2881351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2D7-08A1-4806-85E6-6C33413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1D6-950E-41B2-805E-ACD987C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D5F-2A8C-4DB9-93F0-E5A69936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30D-ED31-4993-95D1-0476E4854B5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C8C-6AA4-48E9-BB12-B813A1D75C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116000" y="2508120"/>
            <a:ext cx="99601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674640" y="976320"/>
            <a:ext cx="10698120" cy="46180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7319880" y="97632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7319880" y="1917720"/>
            <a:ext cx="2624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6576840" y="2924280"/>
            <a:ext cx="4461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6600960" y="386064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7319880" y="4869000"/>
            <a:ext cx="29131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641520" y="1857240"/>
            <a:ext cx="10766160" cy="2713320"/>
          </a:xfrm>
          <a:prstGeom prst="rect">
            <a:avLst/>
          </a:prstGeom>
          <a:ln w="0">
            <a:noFill/>
          </a:ln>
        </p:spPr>
      </p:pic>
      <p:sp>
        <p:nvSpPr>
          <p:cNvPr id="118" name="矩形 3"/>
          <p:cNvSpPr/>
          <p:nvPr/>
        </p:nvSpPr>
        <p:spPr>
          <a:xfrm>
            <a:off x="6961320" y="1917720"/>
            <a:ext cx="4186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6761160" y="285264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6527880" y="386064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816120" y="987480"/>
            <a:ext cx="10416960" cy="459576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7464600" y="198900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7104240" y="292428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6888240" y="393228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6959520" y="4894200"/>
            <a:ext cx="2197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965160" y="995400"/>
            <a:ext cx="10118880" cy="457992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1488960" y="2986200"/>
            <a:ext cx="970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1616040" y="4906800"/>
            <a:ext cx="9705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720720" y="1397160"/>
            <a:ext cx="10750680" cy="3489120"/>
          </a:xfrm>
          <a:prstGeom prst="rect">
            <a:avLst/>
          </a:prstGeom>
          <a:ln w="0">
            <a:noFill/>
          </a:ln>
        </p:spPr>
      </p:pic>
      <p:sp>
        <p:nvSpPr>
          <p:cNvPr id="130" name="矩形 3"/>
          <p:cNvSpPr/>
          <p:nvPr/>
        </p:nvSpPr>
        <p:spPr>
          <a:xfrm>
            <a:off x="1274760" y="2340000"/>
            <a:ext cx="10258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274760" y="4276800"/>
            <a:ext cx="10258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71400" y="469800"/>
            <a:ext cx="107060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8112240" y="234792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8112240" y="4292640"/>
            <a:ext cx="1114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803160" y="2409840"/>
            <a:ext cx="10585440" cy="160812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8256600" y="241920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641520" y="565200"/>
            <a:ext cx="10621800" cy="5440320"/>
          </a:xfrm>
          <a:prstGeom prst="rect">
            <a:avLst/>
          </a:prstGeom>
          <a:ln w="0">
            <a:noFill/>
          </a:ln>
        </p:spPr>
      </p:pic>
      <p:sp>
        <p:nvSpPr>
          <p:cNvPr id="86" name="矩形 3"/>
          <p:cNvSpPr/>
          <p:nvPr/>
        </p:nvSpPr>
        <p:spPr>
          <a:xfrm>
            <a:off x="7824960" y="141300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8112240" y="3355920"/>
            <a:ext cx="2103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8040600" y="522936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685800" y="984240"/>
            <a:ext cx="10675800" cy="4602240"/>
          </a:xfrm>
          <a:prstGeom prst="rect">
            <a:avLst/>
          </a:prstGeom>
          <a:ln w="0">
            <a:noFill/>
          </a:ln>
        </p:spPr>
      </p:pic>
      <p:sp>
        <p:nvSpPr>
          <p:cNvPr id="90" name="矩形 3"/>
          <p:cNvSpPr/>
          <p:nvPr/>
        </p:nvSpPr>
        <p:spPr>
          <a:xfrm>
            <a:off x="7967520" y="981000"/>
            <a:ext cx="1113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8183520" y="191772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8183520" y="285264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896240" y="386064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8040600" y="4797360"/>
            <a:ext cx="2103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596880" y="1434960"/>
            <a:ext cx="10568160" cy="355788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7824960" y="1362240"/>
            <a:ext cx="2501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7824960" y="2349360"/>
            <a:ext cx="1746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7897680" y="4292640"/>
            <a:ext cx="1113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685800" y="1797120"/>
            <a:ext cx="10675800" cy="268920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8040600" y="177336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8040600" y="3719520"/>
            <a:ext cx="1112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1189080" y="1407960"/>
            <a:ext cx="9669600" cy="3611880"/>
          </a:xfrm>
          <a:prstGeom prst="rect">
            <a:avLst/>
          </a:prstGeom>
          <a:ln w="0">
            <a:noFill/>
          </a:ln>
        </p:spPr>
      </p:pic>
      <p:sp>
        <p:nvSpPr>
          <p:cNvPr id="103" name="矩形 3"/>
          <p:cNvSpPr/>
          <p:nvPr/>
        </p:nvSpPr>
        <p:spPr>
          <a:xfrm>
            <a:off x="5951520" y="2276640"/>
            <a:ext cx="1112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5673600" y="4292640"/>
            <a:ext cx="1113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768240" y="836640"/>
            <a:ext cx="3733920" cy="7160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/>
          <p:cNvPicPr/>
          <p:nvPr/>
        </p:nvPicPr>
        <p:blipFill>
          <a:blip r:embed="rId2"/>
          <a:stretch/>
        </p:blipFill>
        <p:spPr>
          <a:xfrm>
            <a:off x="735120" y="2087640"/>
            <a:ext cx="10721880" cy="3687840"/>
          </a:xfrm>
          <a:prstGeom prst="rect">
            <a:avLst/>
          </a:prstGeom>
          <a:ln w="0">
            <a:noFill/>
          </a:ln>
        </p:spPr>
      </p:pic>
      <p:sp>
        <p:nvSpPr>
          <p:cNvPr id="107" name="矩形 3"/>
          <p:cNvSpPr/>
          <p:nvPr/>
        </p:nvSpPr>
        <p:spPr>
          <a:xfrm>
            <a:off x="6743880" y="2087640"/>
            <a:ext cx="1114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6937200" y="3067200"/>
            <a:ext cx="11145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6888240" y="4003560"/>
            <a:ext cx="2395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7391520" y="5013360"/>
            <a:ext cx="3200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7:40:22Z</dcterms:modified>
  <cp:revision>3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