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DDB-D197-48E4-9DA0-5ADC5F3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DD9-86A1-402A-965B-8D9459B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582-C799-4FED-98FC-CC363C7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8FD-4D8F-4670-8403-C82D79B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3D9-E0B9-4119-974F-EE8F2A6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103-F415-4970-BE14-04F673E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134-33B6-432E-AC95-66D87AF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C89-80A5-41CD-BA95-D5FBEE7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267-58C2-434C-8DC0-5668C2A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363-C136-4041-9168-0A78439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E0D-A544-4F31-8833-DDCBF06E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AB7-912C-4DD6-9F6B-3893F7A3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952-299E-4443-8EDD-724DCC65E6C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EF48-5026-4B84-94C8-DB777FF002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1812960" y="2432160"/>
            <a:ext cx="85662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819000" y="1157400"/>
            <a:ext cx="10553760" cy="3970080"/>
          </a:xfrm>
          <a:prstGeom prst="rect">
            <a:avLst/>
          </a:prstGeom>
          <a:ln w="0">
            <a:noFill/>
          </a:ln>
        </p:spPr>
      </p:pic>
      <p:sp>
        <p:nvSpPr>
          <p:cNvPr id="107" name="矩形 2"/>
          <p:cNvSpPr/>
          <p:nvPr/>
        </p:nvSpPr>
        <p:spPr>
          <a:xfrm>
            <a:off x="8039160" y="2203560"/>
            <a:ext cx="1279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8110440" y="3271680"/>
            <a:ext cx="1424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8039160" y="4363920"/>
            <a:ext cx="1422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819000" y="1239840"/>
            <a:ext cx="10553760" cy="394812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8040600" y="1125360"/>
            <a:ext cx="1233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7967520" y="2203560"/>
            <a:ext cx="1468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7824960" y="3284640"/>
            <a:ext cx="30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039160" y="4435560"/>
            <a:ext cx="1233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846000" y="1193760"/>
            <a:ext cx="1035540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7535880" y="1123920"/>
            <a:ext cx="30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7824960" y="2276640"/>
            <a:ext cx="30733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248600" y="328464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680240" y="443700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768240" y="1285920"/>
            <a:ext cx="10080720" cy="4000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7104240" y="119700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6524640" y="2278080"/>
            <a:ext cx="30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7391520" y="3357720"/>
            <a:ext cx="3074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7464600" y="443700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679320" y="301680"/>
            <a:ext cx="1069020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矩形 2"/>
          <p:cNvSpPr/>
          <p:nvPr/>
        </p:nvSpPr>
        <p:spPr>
          <a:xfrm>
            <a:off x="7248600" y="18900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7391520" y="1268280"/>
            <a:ext cx="30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7104240" y="3357720"/>
            <a:ext cx="307476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7391520" y="4437000"/>
            <a:ext cx="30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7824960" y="551664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824040" y="695160"/>
            <a:ext cx="10401120" cy="5037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2"/>
          <p:cNvSpPr/>
          <p:nvPr/>
        </p:nvSpPr>
        <p:spPr>
          <a:xfrm>
            <a:off x="6816600" y="1700280"/>
            <a:ext cx="3073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6673680" y="2779560"/>
            <a:ext cx="3073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6816600" y="3860640"/>
            <a:ext cx="3073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5"/>
          <p:cNvSpPr/>
          <p:nvPr/>
        </p:nvSpPr>
        <p:spPr>
          <a:xfrm>
            <a:off x="6745320" y="4940280"/>
            <a:ext cx="30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"/>
          <p:cNvPicPr/>
          <p:nvPr/>
        </p:nvPicPr>
        <p:blipFill>
          <a:blip r:embed="rId1"/>
          <a:stretch/>
        </p:blipFill>
        <p:spPr>
          <a:xfrm>
            <a:off x="1120680" y="1228680"/>
            <a:ext cx="9950400" cy="3970440"/>
          </a:xfrm>
          <a:prstGeom prst="rect">
            <a:avLst/>
          </a:prstGeom>
          <a:ln w="0">
            <a:noFill/>
          </a:ln>
        </p:spPr>
      </p:pic>
      <p:sp>
        <p:nvSpPr>
          <p:cNvPr id="137" name="矩形 3"/>
          <p:cNvSpPr/>
          <p:nvPr/>
        </p:nvSpPr>
        <p:spPr>
          <a:xfrm>
            <a:off x="7102440" y="1195560"/>
            <a:ext cx="10843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7104240" y="2276640"/>
            <a:ext cx="22078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7102440" y="3355920"/>
            <a:ext cx="1488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959520" y="4437000"/>
            <a:ext cx="30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1"/>
          <a:stretch/>
        </p:blipFill>
        <p:spPr>
          <a:xfrm>
            <a:off x="568440" y="782640"/>
            <a:ext cx="10767960" cy="5005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6527880" y="763560"/>
            <a:ext cx="2117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6599160" y="1844640"/>
            <a:ext cx="2816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7176960" y="2924280"/>
            <a:ext cx="40798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6599160" y="400356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7104240" y="5011560"/>
            <a:ext cx="30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892080" y="1266840"/>
            <a:ext cx="10407600" cy="403848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7520040" y="1266840"/>
            <a:ext cx="2370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7391520" y="2349360"/>
            <a:ext cx="3074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6816600" y="3357720"/>
            <a:ext cx="19591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7095960" y="4437000"/>
            <a:ext cx="1209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797040" y="766800"/>
            <a:ext cx="10455120" cy="5037120"/>
          </a:xfrm>
          <a:prstGeom prst="rect">
            <a:avLst/>
          </a:prstGeom>
          <a:ln w="0">
            <a:noFill/>
          </a:ln>
        </p:spPr>
      </p:pic>
      <p:sp>
        <p:nvSpPr>
          <p:cNvPr id="153" name="矩形 2"/>
          <p:cNvSpPr/>
          <p:nvPr/>
        </p:nvSpPr>
        <p:spPr>
          <a:xfrm>
            <a:off x="6888240" y="692280"/>
            <a:ext cx="1265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88240" y="1771560"/>
            <a:ext cx="833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6750000" y="2828880"/>
            <a:ext cx="22035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6672240" y="3932280"/>
            <a:ext cx="1646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7391520" y="4940280"/>
            <a:ext cx="2098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52320" y="463680"/>
            <a:ext cx="10744200" cy="550044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5592600" y="2349360"/>
            <a:ext cx="30736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9551880" y="4221000"/>
            <a:ext cx="17924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5127480" y="5180040"/>
            <a:ext cx="2079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72960" y="1111320"/>
            <a:ext cx="11476080" cy="24829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927000" y="4060800"/>
            <a:ext cx="8185320" cy="746280"/>
          </a:xfrm>
          <a:prstGeom prst="rect">
            <a:avLst/>
          </a:prstGeom>
          <a:ln w="0">
            <a:noFill/>
          </a:ln>
        </p:spPr>
      </p:pic>
      <p:sp>
        <p:nvSpPr>
          <p:cNvPr id="160" name="矩形 5"/>
          <p:cNvSpPr/>
          <p:nvPr/>
        </p:nvSpPr>
        <p:spPr>
          <a:xfrm>
            <a:off x="912960" y="2878200"/>
            <a:ext cx="1093608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511200" y="1609560"/>
            <a:ext cx="11169720" cy="14860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2" descr=""/>
          <p:cNvPicPr/>
          <p:nvPr/>
        </p:nvPicPr>
        <p:blipFill>
          <a:blip r:embed="rId2"/>
          <a:stretch/>
        </p:blipFill>
        <p:spPr>
          <a:xfrm>
            <a:off x="1111320" y="3483000"/>
            <a:ext cx="6667560" cy="75420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984240" y="2349360"/>
            <a:ext cx="10771200" cy="20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388800" y="1533600"/>
            <a:ext cx="11269800" cy="1493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"/>
          <p:cNvPicPr/>
          <p:nvPr/>
        </p:nvPicPr>
        <p:blipFill>
          <a:blip r:embed="rId2"/>
          <a:stretch/>
        </p:blipFill>
        <p:spPr>
          <a:xfrm>
            <a:off x="696960" y="3441600"/>
            <a:ext cx="10942560" cy="6922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"/>
          <p:cNvPicPr/>
          <p:nvPr/>
        </p:nvPicPr>
        <p:blipFill>
          <a:blip r:embed="rId3"/>
          <a:stretch/>
        </p:blipFill>
        <p:spPr>
          <a:xfrm>
            <a:off x="639720" y="4616280"/>
            <a:ext cx="2301840" cy="640080"/>
          </a:xfrm>
          <a:prstGeom prst="rect">
            <a:avLst/>
          </a:prstGeom>
          <a:ln w="0">
            <a:noFill/>
          </a:ln>
        </p:spPr>
      </p:pic>
      <p:sp>
        <p:nvSpPr>
          <p:cNvPr id="167" name="矩形 4"/>
          <p:cNvSpPr/>
          <p:nvPr/>
        </p:nvSpPr>
        <p:spPr>
          <a:xfrm>
            <a:off x="466560" y="2347920"/>
            <a:ext cx="11246040" cy="29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1630440" y="1771560"/>
            <a:ext cx="6202440" cy="1594080"/>
          </a:xfrm>
          <a:prstGeom prst="rect">
            <a:avLst/>
          </a:prstGeom>
          <a:ln w="0">
            <a:noFill/>
          </a:ln>
        </p:spPr>
      </p:pic>
      <p:sp>
        <p:nvSpPr>
          <p:cNvPr id="169" name="矩形 2"/>
          <p:cNvSpPr/>
          <p:nvPr/>
        </p:nvSpPr>
        <p:spPr>
          <a:xfrm>
            <a:off x="1992240" y="2637000"/>
            <a:ext cx="61102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" descr=""/>
          <p:cNvPicPr/>
          <p:nvPr/>
        </p:nvPicPr>
        <p:blipFill>
          <a:blip r:embed="rId1"/>
          <a:stretch/>
        </p:blipFill>
        <p:spPr>
          <a:xfrm>
            <a:off x="647640" y="801720"/>
            <a:ext cx="10896840" cy="5191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" descr=""/>
          <p:cNvPicPr/>
          <p:nvPr/>
        </p:nvPicPr>
        <p:blipFill>
          <a:blip r:embed="rId2"/>
          <a:stretch/>
        </p:blipFill>
        <p:spPr>
          <a:xfrm>
            <a:off x="1271520" y="1628640"/>
            <a:ext cx="4038840" cy="6336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1305000" y="2598840"/>
            <a:ext cx="10156680" cy="655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" descr=""/>
          <p:cNvPicPr/>
          <p:nvPr/>
        </p:nvPicPr>
        <p:blipFill>
          <a:blip r:embed="rId4"/>
          <a:stretch/>
        </p:blipFill>
        <p:spPr>
          <a:xfrm>
            <a:off x="422280" y="3656160"/>
            <a:ext cx="11331720" cy="6937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8" descr=""/>
          <p:cNvPicPr/>
          <p:nvPr/>
        </p:nvPicPr>
        <p:blipFill>
          <a:blip r:embed="rId5"/>
          <a:stretch/>
        </p:blipFill>
        <p:spPr>
          <a:xfrm>
            <a:off x="422280" y="4740120"/>
            <a:ext cx="8047080" cy="677880"/>
          </a:xfrm>
          <a:prstGeom prst="rect">
            <a:avLst/>
          </a:prstGeom>
          <a:ln w="0">
            <a:noFill/>
          </a:ln>
        </p:spPr>
      </p:pic>
      <p:sp>
        <p:nvSpPr>
          <p:cNvPr id="175" name="矩形 9"/>
          <p:cNvSpPr/>
          <p:nvPr/>
        </p:nvSpPr>
        <p:spPr>
          <a:xfrm>
            <a:off x="406440" y="2565360"/>
            <a:ext cx="11261520" cy="28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"/>
          <p:cNvPicPr/>
          <p:nvPr/>
        </p:nvPicPr>
        <p:blipFill>
          <a:blip r:embed="rId1"/>
          <a:stretch/>
        </p:blipFill>
        <p:spPr>
          <a:xfrm>
            <a:off x="617400" y="1514520"/>
            <a:ext cx="10956960" cy="1531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2"/>
          <a:stretch/>
        </p:blipFill>
        <p:spPr>
          <a:xfrm>
            <a:off x="1200240" y="3500280"/>
            <a:ext cx="4351320" cy="609840"/>
          </a:xfrm>
          <a:prstGeom prst="rect">
            <a:avLst/>
          </a:prstGeom>
          <a:ln w="0">
            <a:noFill/>
          </a:ln>
        </p:spPr>
      </p:pic>
      <p:sp>
        <p:nvSpPr>
          <p:cNvPr id="178" name="矩形 4"/>
          <p:cNvSpPr/>
          <p:nvPr/>
        </p:nvSpPr>
        <p:spPr>
          <a:xfrm>
            <a:off x="1071720" y="2349360"/>
            <a:ext cx="10602720" cy="21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792000" y="1571760"/>
            <a:ext cx="10607760" cy="15620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" descr=""/>
          <p:cNvPicPr/>
          <p:nvPr/>
        </p:nvPicPr>
        <p:blipFill>
          <a:blip r:embed="rId2"/>
          <a:stretch/>
        </p:blipFill>
        <p:spPr>
          <a:xfrm>
            <a:off x="1487520" y="3648240"/>
            <a:ext cx="5510160" cy="701640"/>
          </a:xfrm>
          <a:prstGeom prst="rect">
            <a:avLst/>
          </a:prstGeom>
          <a:ln w="0">
            <a:noFill/>
          </a:ln>
        </p:spPr>
      </p:pic>
      <p:sp>
        <p:nvSpPr>
          <p:cNvPr id="181" name="矩形 5"/>
          <p:cNvSpPr/>
          <p:nvPr/>
        </p:nvSpPr>
        <p:spPr>
          <a:xfrm>
            <a:off x="1287360" y="2349360"/>
            <a:ext cx="10196640" cy="23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993600" y="1582560"/>
            <a:ext cx="10204560" cy="15400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4" descr=""/>
          <p:cNvPicPr/>
          <p:nvPr/>
        </p:nvPicPr>
        <p:blipFill>
          <a:blip r:embed="rId2"/>
          <a:stretch/>
        </p:blipFill>
        <p:spPr>
          <a:xfrm>
            <a:off x="1487520" y="3645000"/>
            <a:ext cx="4313160" cy="723960"/>
          </a:xfrm>
          <a:prstGeom prst="rect">
            <a:avLst/>
          </a:prstGeom>
          <a:ln w="0">
            <a:noFill/>
          </a:ln>
        </p:spPr>
      </p:pic>
      <p:sp>
        <p:nvSpPr>
          <p:cNvPr id="184" name="矩形 5"/>
          <p:cNvSpPr/>
          <p:nvPr/>
        </p:nvSpPr>
        <p:spPr>
          <a:xfrm>
            <a:off x="1359000" y="2349360"/>
            <a:ext cx="10051920" cy="21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3" descr=""/>
          <p:cNvPicPr/>
          <p:nvPr/>
        </p:nvPicPr>
        <p:blipFill>
          <a:blip r:embed="rId1"/>
          <a:stretch/>
        </p:blipFill>
        <p:spPr>
          <a:xfrm>
            <a:off x="982800" y="1650960"/>
            <a:ext cx="10226520" cy="1546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2"/>
          <a:stretch/>
        </p:blipFill>
        <p:spPr>
          <a:xfrm>
            <a:off x="1558800" y="3645000"/>
            <a:ext cx="3521160" cy="663480"/>
          </a:xfrm>
          <a:prstGeom prst="rect">
            <a:avLst/>
          </a:prstGeom>
          <a:ln w="0">
            <a:noFill/>
          </a:ln>
        </p:spPr>
      </p:pic>
      <p:sp>
        <p:nvSpPr>
          <p:cNvPr id="187" name="矩形 5"/>
          <p:cNvSpPr/>
          <p:nvPr/>
        </p:nvSpPr>
        <p:spPr>
          <a:xfrm>
            <a:off x="1287360" y="2421000"/>
            <a:ext cx="10106280" cy="19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2" descr=""/>
          <p:cNvPicPr/>
          <p:nvPr/>
        </p:nvPicPr>
        <p:blipFill>
          <a:blip r:embed="rId1"/>
          <a:stretch/>
        </p:blipFill>
        <p:spPr>
          <a:xfrm>
            <a:off x="762120" y="1878120"/>
            <a:ext cx="10667880" cy="15238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2"/>
          <a:stretch/>
        </p:blipFill>
        <p:spPr>
          <a:xfrm>
            <a:off x="1487520" y="3790800"/>
            <a:ext cx="5630760" cy="679680"/>
          </a:xfrm>
          <a:prstGeom prst="rect">
            <a:avLst/>
          </a:prstGeom>
          <a:ln w="0">
            <a:noFill/>
          </a:ln>
        </p:spPr>
      </p:pic>
      <p:sp>
        <p:nvSpPr>
          <p:cNvPr id="190" name="矩形 4"/>
          <p:cNvSpPr/>
          <p:nvPr/>
        </p:nvSpPr>
        <p:spPr>
          <a:xfrm>
            <a:off x="1359000" y="2637000"/>
            <a:ext cx="10267920" cy="20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679320" y="1879560"/>
            <a:ext cx="1069020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9048600" y="1844640"/>
            <a:ext cx="16812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8663040" y="2781360"/>
            <a:ext cx="1369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8327880" y="3787920"/>
            <a:ext cx="168300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"/>
          <p:cNvPicPr/>
          <p:nvPr/>
        </p:nvPicPr>
        <p:blipFill>
          <a:blip r:embed="rId1"/>
          <a:stretch/>
        </p:blipFill>
        <p:spPr>
          <a:xfrm>
            <a:off x="1162080" y="2023920"/>
            <a:ext cx="9007560" cy="1662120"/>
          </a:xfrm>
          <a:prstGeom prst="rect">
            <a:avLst/>
          </a:prstGeom>
          <a:ln w="0">
            <a:noFill/>
          </a:ln>
        </p:spPr>
      </p:pic>
      <p:sp>
        <p:nvSpPr>
          <p:cNvPr id="192" name="矩形 2"/>
          <p:cNvSpPr/>
          <p:nvPr/>
        </p:nvSpPr>
        <p:spPr>
          <a:xfrm>
            <a:off x="1789200" y="2995560"/>
            <a:ext cx="8777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25320" y="477720"/>
            <a:ext cx="27273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2"/>
          <a:stretch/>
        </p:blipFill>
        <p:spPr>
          <a:xfrm>
            <a:off x="593640" y="1438200"/>
            <a:ext cx="11004480" cy="4556160"/>
          </a:xfrm>
          <a:prstGeom prst="rect">
            <a:avLst/>
          </a:prstGeom>
          <a:ln w="0">
            <a:noFill/>
          </a:ln>
        </p:spPr>
      </p:pic>
      <p:sp>
        <p:nvSpPr>
          <p:cNvPr id="90" name="矩形 3"/>
          <p:cNvSpPr/>
          <p:nvPr/>
        </p:nvSpPr>
        <p:spPr>
          <a:xfrm>
            <a:off x="6743880" y="1484280"/>
            <a:ext cx="2205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6889680" y="3427560"/>
            <a:ext cx="44960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232240" y="4363920"/>
            <a:ext cx="987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666720" y="1471680"/>
            <a:ext cx="10858680" cy="3627360"/>
          </a:xfrm>
          <a:prstGeom prst="rect">
            <a:avLst/>
          </a:prstGeom>
          <a:ln w="0">
            <a:noFill/>
          </a:ln>
        </p:spPr>
      </p:pic>
      <p:sp>
        <p:nvSpPr>
          <p:cNvPr id="94" name="矩形 2"/>
          <p:cNvSpPr/>
          <p:nvPr/>
        </p:nvSpPr>
        <p:spPr>
          <a:xfrm>
            <a:off x="6959520" y="1484280"/>
            <a:ext cx="21751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6961320" y="3429000"/>
            <a:ext cx="21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689040" y="1389240"/>
            <a:ext cx="10814040" cy="350496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8337600" y="2347920"/>
            <a:ext cx="22017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4919760" y="1898640"/>
            <a:ext cx="6514920" cy="262908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8327880" y="1916280"/>
            <a:ext cx="30736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4943520" y="2852640"/>
            <a:ext cx="18828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55560" y="1890720"/>
            <a:ext cx="10880640" cy="278928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6815160" y="1916280"/>
            <a:ext cx="33908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35120" y="1128600"/>
            <a:ext cx="10721880" cy="445788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6961320" y="1123920"/>
            <a:ext cx="39099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7032600" y="4003560"/>
            <a:ext cx="30733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7T01:52:11Z</dcterms:modified>
  <cp:revision>3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