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D66-F2A7-45AC-A8BB-D7DCFB04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800-F64B-47AE-9965-4FF7FCD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739-507C-46B6-BAB6-8ACF23F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8B8-FD89-4018-89D8-8B20FE42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592-2FB0-48B8-B1E2-0D19D99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1E4-1301-4463-8C19-52C5EFF9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725-F0B0-4621-84FF-9F553CC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F92-5142-4609-8276-D1B2E17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168-7474-4E51-B64A-15233EF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D7D-41FA-4576-9594-C44928CE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A22-C7B9-46C1-9BA9-61ECAC75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EB7-BE1F-4A2C-89B5-BBEBCB4E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2C7-A607-4CE9-A0D5-016FCBE651F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B80D-B15E-483A-AE3A-A84975C478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433440" y="2593800"/>
            <a:ext cx="11247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771560" y="1266840"/>
            <a:ext cx="83660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2346480" y="3500280"/>
            <a:ext cx="798660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768240" y="1555920"/>
            <a:ext cx="9882360" cy="16761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2"/>
          <a:stretch/>
        </p:blipFill>
        <p:spPr>
          <a:xfrm>
            <a:off x="1415880" y="3645000"/>
            <a:ext cx="9182160" cy="677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"/>
          <p:cNvSpPr/>
          <p:nvPr/>
        </p:nvSpPr>
        <p:spPr>
          <a:xfrm>
            <a:off x="1344600" y="2492280"/>
            <a:ext cx="9582120" cy="19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484200" y="623880"/>
            <a:ext cx="11223720" cy="5875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" descr=""/>
          <p:cNvPicPr/>
          <p:nvPr/>
        </p:nvPicPr>
        <p:blipFill>
          <a:blip r:embed="rId2"/>
          <a:stretch/>
        </p:blipFill>
        <p:spPr>
          <a:xfrm>
            <a:off x="1069920" y="1346040"/>
            <a:ext cx="8213760" cy="6541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"/>
          <p:cNvPicPr/>
          <p:nvPr/>
        </p:nvPicPr>
        <p:blipFill>
          <a:blip r:embed="rId3"/>
          <a:stretch/>
        </p:blipFill>
        <p:spPr>
          <a:xfrm>
            <a:off x="1065240" y="2206800"/>
            <a:ext cx="10348920" cy="5792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4"/>
          <a:stretch/>
        </p:blipFill>
        <p:spPr>
          <a:xfrm>
            <a:off x="1103400" y="3102120"/>
            <a:ext cx="10272600" cy="653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5"/>
          <a:stretch/>
        </p:blipFill>
        <p:spPr>
          <a:xfrm>
            <a:off x="1069920" y="4224240"/>
            <a:ext cx="1058760" cy="647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6"/>
          <a:stretch/>
        </p:blipFill>
        <p:spPr>
          <a:xfrm>
            <a:off x="2048040" y="4192560"/>
            <a:ext cx="9388440" cy="6256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7"/>
          <a:stretch/>
        </p:blipFill>
        <p:spPr>
          <a:xfrm>
            <a:off x="996840" y="5159520"/>
            <a:ext cx="793800" cy="5936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911160" y="2133720"/>
            <a:ext cx="10576080" cy="37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819000" y="919080"/>
            <a:ext cx="1069848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2"/>
          <a:stretch/>
        </p:blipFill>
        <p:spPr>
          <a:xfrm>
            <a:off x="1343160" y="1844640"/>
            <a:ext cx="4198680" cy="639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" descr=""/>
          <p:cNvPicPr/>
          <p:nvPr/>
        </p:nvPicPr>
        <p:blipFill>
          <a:blip r:embed="rId3"/>
          <a:stretch/>
        </p:blipFill>
        <p:spPr>
          <a:xfrm>
            <a:off x="1444680" y="2697120"/>
            <a:ext cx="9875880" cy="6015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" descr=""/>
          <p:cNvPicPr/>
          <p:nvPr/>
        </p:nvPicPr>
        <p:blipFill>
          <a:blip r:embed="rId4"/>
          <a:stretch/>
        </p:blipFill>
        <p:spPr>
          <a:xfrm>
            <a:off x="1339920" y="3554280"/>
            <a:ext cx="9943920" cy="754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1" descr=""/>
          <p:cNvPicPr/>
          <p:nvPr/>
        </p:nvPicPr>
        <p:blipFill>
          <a:blip r:embed="rId5"/>
          <a:stretch/>
        </p:blipFill>
        <p:spPr>
          <a:xfrm>
            <a:off x="1339920" y="4581360"/>
            <a:ext cx="1736640" cy="6238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2" descr=""/>
          <p:cNvPicPr/>
          <p:nvPr/>
        </p:nvPicPr>
        <p:blipFill>
          <a:blip r:embed="rId6"/>
          <a:stretch/>
        </p:blipFill>
        <p:spPr>
          <a:xfrm>
            <a:off x="3147840" y="4581360"/>
            <a:ext cx="570096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矩形 13"/>
          <p:cNvSpPr/>
          <p:nvPr/>
        </p:nvSpPr>
        <p:spPr>
          <a:xfrm>
            <a:off x="1127160" y="2637000"/>
            <a:ext cx="10390320" cy="29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743040" y="1366920"/>
            <a:ext cx="10706040" cy="1684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1271520" y="3500280"/>
            <a:ext cx="7682040" cy="716040"/>
          </a:xfrm>
          <a:prstGeom prst="rect">
            <a:avLst/>
          </a:prstGeom>
          <a:ln w="0">
            <a:noFill/>
          </a:ln>
        </p:spPr>
      </p:pic>
      <p:sp>
        <p:nvSpPr>
          <p:cNvPr id="133" name="矩形 3"/>
          <p:cNvSpPr/>
          <p:nvPr/>
        </p:nvSpPr>
        <p:spPr>
          <a:xfrm>
            <a:off x="1278000" y="2349360"/>
            <a:ext cx="10267920" cy="20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647640" y="1857240"/>
            <a:ext cx="10896840" cy="17082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"/>
          <p:cNvPicPr/>
          <p:nvPr/>
        </p:nvPicPr>
        <p:blipFill>
          <a:blip r:embed="rId2"/>
          <a:stretch/>
        </p:blipFill>
        <p:spPr>
          <a:xfrm>
            <a:off x="1227240" y="4011480"/>
            <a:ext cx="9593280" cy="70020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966960" y="2852640"/>
            <a:ext cx="1071216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468360" y="2341440"/>
            <a:ext cx="11255400" cy="1744920"/>
          </a:xfrm>
          <a:prstGeom prst="rect">
            <a:avLst/>
          </a:prstGeom>
          <a:ln w="0">
            <a:noFill/>
          </a:ln>
        </p:spPr>
      </p:pic>
      <p:sp>
        <p:nvSpPr>
          <p:cNvPr id="138" name="矩形 2"/>
          <p:cNvSpPr/>
          <p:nvPr/>
        </p:nvSpPr>
        <p:spPr>
          <a:xfrm>
            <a:off x="985680" y="3355920"/>
            <a:ext cx="107841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816120" y="1655640"/>
            <a:ext cx="1055988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240600" y="3716280"/>
            <a:ext cx="29811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701640" y="885960"/>
            <a:ext cx="1078884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矩形 2"/>
          <p:cNvSpPr/>
          <p:nvPr/>
        </p:nvSpPr>
        <p:spPr>
          <a:xfrm>
            <a:off x="9120240" y="184464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0868040" y="3860640"/>
            <a:ext cx="584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664240" y="4867200"/>
            <a:ext cx="21160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625320" y="371520"/>
            <a:ext cx="10798200" cy="568476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10415520" y="1339920"/>
            <a:ext cx="9572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737320" y="2349360"/>
            <a:ext cx="1349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7462800" y="4437000"/>
            <a:ext cx="14367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639720" y="1449360"/>
            <a:ext cx="10912680" cy="3672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7391520" y="1413000"/>
            <a:ext cx="13935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7319880" y="3500280"/>
            <a:ext cx="1700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739800" y="812880"/>
            <a:ext cx="10712520" cy="4944960"/>
          </a:xfrm>
          <a:prstGeom prst="rect">
            <a:avLst/>
          </a:prstGeom>
          <a:ln w="0">
            <a:noFill/>
          </a:ln>
        </p:spPr>
      </p:pic>
      <p:sp>
        <p:nvSpPr>
          <p:cNvPr id="94" name="矩形 2"/>
          <p:cNvSpPr/>
          <p:nvPr/>
        </p:nvSpPr>
        <p:spPr>
          <a:xfrm>
            <a:off x="7464600" y="765000"/>
            <a:ext cx="13111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6672240" y="3859200"/>
            <a:ext cx="21049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6527880" y="4869000"/>
            <a:ext cx="11160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800280" y="1209600"/>
            <a:ext cx="10591560" cy="386388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6456240" y="1197000"/>
            <a:ext cx="203364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600960" y="2276640"/>
            <a:ext cx="85392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456240" y="3284640"/>
            <a:ext cx="34750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6527880" y="4292640"/>
            <a:ext cx="35733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676440" y="793800"/>
            <a:ext cx="10553400" cy="498312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6529320" y="765000"/>
            <a:ext cx="13273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54800" y="1773360"/>
            <a:ext cx="12430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6377040" y="2759040"/>
            <a:ext cx="29811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6240600" y="3859200"/>
            <a:ext cx="29811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384960" y="4863960"/>
            <a:ext cx="29811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739800" y="1808280"/>
            <a:ext cx="10712520" cy="281124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7464600" y="2779560"/>
            <a:ext cx="29811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7319880" y="3787920"/>
            <a:ext cx="130356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9:28:02Z</dcterms:modified>
  <cp:revision>3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